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EAB1-A85C-4AED-8BC9-E5FEE20A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21FA-0AAD-475D-964E-72CB95E5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C6F1-D6A6-4054-AAC9-2041ABE2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AE0F-BB7E-41A6-A85C-9E596AB5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4201-CE20-4EB8-9B21-6880C35F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4A80-FF36-4E2D-A84B-94130871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0644-9CB6-4F3F-A92C-D47A5586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3C2C-28DB-4DF6-BBBC-245120B3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DBD8-F5DD-4E78-90E0-C67DD4FF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AA8D-E20D-46C9-8394-C0244648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CEB5-FB50-4D53-B590-3F5C72EB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B886-D931-4AEA-9446-A9F165F2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3221-135E-4BD7-BD2F-904BA569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946B-71FE-437C-99A7-ADDAEA2A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25B5-830D-49E5-B85A-C18EE71D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AC19-982B-4149-AB3D-AE622EEE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F08C-E311-41EA-BB8F-CB8A91CD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E3B0-CB1B-4698-87DD-E2E48F7C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F844-76A0-4C0D-BCE2-22D30E9C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B336-9C52-4FAD-A4E1-80C5E18D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3D0E-6EB9-48BD-B118-CC9EFCDB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280F-C955-4225-8663-715E4F2D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1E41-B78A-468D-83A9-EC2B70BA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FF17-895D-44A4-B2C2-0197FE7A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2C54-25B7-489E-A55A-F7C8BF6E3226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360" y="216036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BRYŁ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6944-D589-4F57-858D-0BC9780412FF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1898640"/>
            <a:ext cx="7515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SIAT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PROSTOPADŁOŚCIANÓ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OWSTAWANIE SIATK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997920"/>
            <a:ext cx="38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zcinanie prostopadłościan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46280" y="1673280"/>
          <a:ext cx="147456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1673280"/>
                    <a:ext cx="147456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367000" y="1494000"/>
          <a:ext cx="1471680" cy="118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7000" y="1494000"/>
                    <a:ext cx="147168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941640" y="1538280"/>
          <a:ext cx="1900440" cy="175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41640" y="1538280"/>
                    <a:ext cx="190044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6192720" y="1538280"/>
          <a:ext cx="2303640" cy="175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92720" y="1538280"/>
                    <a:ext cx="230364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971640" y="3472560"/>
            <a:ext cx="63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 rozcięciu prostopadłościanu otrzymujemy jego siatk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637000" y="4014720"/>
          <a:ext cx="3778200" cy="204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37000" y="4014720"/>
                    <a:ext cx="377820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06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IATKI PROSTOPADŁO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2000" y="153756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atka prostopadłościanu może mieć różne kształ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Obraz 232" descr=""/>
          <p:cNvPicPr/>
          <p:nvPr/>
        </p:nvPicPr>
        <p:blipFill>
          <a:blip r:embed="rId1"/>
          <a:stretch/>
        </p:blipFill>
        <p:spPr>
          <a:xfrm>
            <a:off x="971640" y="2438280"/>
            <a:ext cx="783108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06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IATKA SZE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797360" y="2754360"/>
          <a:ext cx="943200" cy="9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7360" y="2754360"/>
                    <a:ext cx="9432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285920" y="1042920"/>
          <a:ext cx="2924280" cy="220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5920" y="1042920"/>
                    <a:ext cx="292428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276640" y="4284720"/>
          <a:ext cx="2923920" cy="220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76640" y="4284720"/>
                    <a:ext cx="292392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7272360" y="1133640"/>
          <a:ext cx="1484280" cy="364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72360" y="1133640"/>
                    <a:ext cx="148428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 flipV="1">
            <a:off x="6058080" y="2259000"/>
            <a:ext cx="1258560" cy="765360"/>
          </a:xfrm>
          <a:prstGeom prst="line">
            <a:avLst/>
          </a:prstGeom>
          <a:ln w="44280">
            <a:solidFill>
              <a:srgbClr val="ff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985920" y="3968640"/>
            <a:ext cx="855720" cy="720720"/>
          </a:xfrm>
          <a:prstGeom prst="line">
            <a:avLst/>
          </a:prstGeom>
          <a:ln w="44280">
            <a:solidFill>
              <a:srgbClr val="ff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266640" y="2979720"/>
            <a:ext cx="1305000" cy="449280"/>
          </a:xfrm>
          <a:prstGeom prst="line">
            <a:avLst/>
          </a:prstGeom>
          <a:ln w="44280">
            <a:solidFill>
              <a:srgbClr val="ff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57:22Z</dcterms:modified>
  <cp:revision>89</cp:revision>
  <dc:subject/>
  <dc:title>Slajd 1</dc:title>
</cp:coreProperties>
</file>